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5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6208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2640" cy="3419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704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62080" cy="44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BC14B-896C-4DF5-93FE-BC9D3A9141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FD5F5-A57B-40B6-AADB-777CDEF0FC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4CDD96-3E54-4BD9-BA40-8C1D4AD89E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2EC05D-DAA9-4BBA-A65C-8368B6F9D49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26A1D-C74C-4C99-8AF9-F1EC31C24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BE7B8-BE27-4B15-9FCB-7F6DAF27D83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F9ACC-358A-4F4A-85F0-155B5CE60E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D67BA-702D-4985-96B0-69937117B81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5440E-A76D-440B-8B6F-9D6748BA0E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6685B-7F6E-4261-983D-9CCDE7EC57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Rubor, calor, dolor, tumor, functio lae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B1C46-D9EC-4DC0-AF0E-D6930B50C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39DDF-2625-4F06-84C6-389B986851C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2E0F52-7DF5-43D5-8283-F6904937AA1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B71293-3642-40CF-BE70-28E12B2C83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7DF866-7331-4482-8F53-CA870919669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AC3B6A-D716-4677-8AD0-8D128028D4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2BB93-11C6-4A65-95CB-5208B7CF11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7E65B-2376-49FA-9534-6E3D446CD26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D1CABE-B731-4359-BC52-4BE7DD29C8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9FA7B-165A-4685-9F4B-85459C24E7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1F760-0D40-4325-B69F-835219A0AD6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3AA01A-9CB7-4145-B9FE-6AFC15BC317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3A7102-524F-413D-AD6F-E036AC2A9AE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A2FCD-4C22-4C01-98FF-684BC91701C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F58C4-32E5-4FBF-B032-CD56952DE38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BD543-8164-4B9D-91E2-D1945616688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F1F57-4871-47D7-A890-F9EB8A6BE0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301BE-9C58-49E0-A57E-FC67FAF3BF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7A6A9-462B-4129-B2EB-B3D3ABC0EF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A5B687-0443-4A24-9586-F8FAC3E5F3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8592E-2362-4022-AA64-89CC3F5CAD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B26FCB-2B1A-4820-B542-0AA7CD346C3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3211E8-3C1F-4E5F-A976-7F251C92C5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A3467-0477-438D-B8DD-789ADC69C2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84574-8802-432F-BB92-09D19B5313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76747-9BB8-4851-ADA5-DE3B39FC3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CFD8E-EFF5-4ECA-BA95-B1DB09419C6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9ECF6-8E7A-4B5C-AB8E-1350A8AFDA6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3FB956-0ECA-458A-82F2-DC2B8B242C8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5C2BA-3A96-424A-B5EA-52C0B720E6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B8C155-A537-40A0-892C-C69678AF8B8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9D944-4D50-4DCE-9233-E782A571F70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3E69F-4ECD-4705-A55D-862C5681C1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89CDB-8B3E-4847-8B0F-91F183666F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8208B-8131-4ED9-8A01-7D9DCA6E76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969404-5D03-40C4-89B8-E5B01AD4BD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DDCB7-AACC-4F58-983D-8D233CDAA4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E8CA93-9889-4B9D-AB54-91AFF3457AB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6580C-BEC0-42A8-A637-AE85D2D2063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69F01-2781-4F0F-ABAE-F6D9E9EA83B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D1A625-0F5A-49D9-9BAC-F331FD55BD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C958B-573F-4A5B-AA75-8786481C425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41DB78-1C6E-4B8F-A523-3B4A954C96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369F4-A31A-4826-A0EC-9483CD0C55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2A519D-1246-42C7-829E-DA05CCFF6F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4DA4D-A4F6-47C9-BEC7-55BD268E8A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86146-75FD-445C-BC2E-0C463AAAB8E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1D7CFE-8E9F-4E1C-A56C-93CD2921777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C04AB7-FDDC-4E31-8309-D8BF57823A0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25175E-F0E7-4C1E-86CF-6EEF980B757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96038F-4A39-436B-80E8-FFF2DD1625F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ACFFA3-731B-4C20-BD21-D785C3B56B8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E907A-35D7-4375-B402-759DC3A28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B2023E-ADE7-464C-BDF3-A7AE9FCFF66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2A475-DF17-4710-A7AA-FD5674E4171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5EF138-96F2-421F-B86F-0E8B5FB9F56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B7C4DA-6BC3-4520-A0BB-DFD3F2ED40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4340A-5AD6-4F34-BB1F-1846924CFD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F06B8-D622-49FE-B972-135F45F4973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C0FE9-99E1-4267-AB6C-2A46A40D960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A730E8-00DE-4251-8C69-02F67BEEB8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C0787-1AEC-4691-A7AA-9E45F94E22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42A640-FB3D-4703-9970-1697EEC6CFE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1B273F-20B5-4815-846F-BB86545412B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A149A-27A7-42E9-ABAD-5B5F21E1309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AA2AC-F41E-49C3-BD1E-0B427CEF266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2"/>
          <p:cNvSpPr/>
          <p:nvPr/>
        </p:nvSpPr>
        <p:spPr>
          <a:xfrm>
            <a:off x="3884760" y="8685360"/>
            <a:ext cx="296208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966C2-1D72-4716-9D68-512B83E336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7E7B6-9843-4C18-A9A3-E4E4373E6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1896-3E23-4DC9-A562-FBCBEA78E4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3793-901F-490F-B20A-2F2007D13B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50933-B5CB-4DF5-A13B-C3025CD60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56742-75E3-46AC-816F-264BBE1E80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E170-514E-47B9-8F20-7C50213F988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118D-2A2A-4268-A8B1-52C3267B7C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76AB-CBC3-41EE-A3AE-212847E4D65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E43FF-695F-4AAF-AAEF-88810641E7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38FEA-209A-451A-94F5-EC42DAFEEF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758E-02D6-479D-9880-A710A5A3FDE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72A9-5C1D-42D6-AFE9-0FC7DD604F8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9FB0F-0CCD-4929-AB1B-9EA6875D33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749F4-D5EB-4CFD-ADAE-5572A7192E1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7DE03-338D-4AE0-BB59-2F79687D7D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04245-DD63-4D6C-B7B4-0672EE80D9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4D77F-076E-4F72-874B-8B9DDD2109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375B-0067-48FB-B86F-D41EEB6144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CEA7-7A35-48F1-9B11-3CCA69D4A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04BFD-1A66-4293-8B3E-7AA4D3CE96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0240" cy="525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7B92-3C89-4E61-90C5-7E9D0A5F7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1E2E8-BFFF-4D82-85BB-DBD641EF9E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A7D4C-94D0-465A-9D7B-AE1C9D7A4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58865-B483-4667-B497-4BA2DC0846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B90DFC-061E-4FF4-8691-444A247E59B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0240" cy="11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24360" cy="35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2FA3A-3716-49F8-96BF-C8B9FB746C4F}" type="slidenum">
              <a:rPr b="0" i="1" lang="es-E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7921440" cy="59306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"/>
          <p:cNvSpPr/>
          <p:nvPr/>
        </p:nvSpPr>
        <p:spPr>
          <a:xfrm>
            <a:off x="611280" y="3284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Rehabilitation of  patients with rheumatic disease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oc. Dr. Igor Simanic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9F180B-F661-481D-A20F-82150F04DA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24000" y="1341360"/>
            <a:ext cx="8640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3720" algn="just">
              <a:lnSpc>
                <a:spcPct val="80000"/>
              </a:lnSpc>
              <a:spcBef>
                <a:spcPts val="55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ording to the clinical and radiographic picture, there are four stages of RA 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peri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swelling of the soft tissu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around MCP and PIP joints) and juxta-articular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оsteopor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narrowing of the joint space, development of subcortical cysts and edge erosions (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usur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, incipient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muscle atroph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possible occurrence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Calibri"/>
              </a:rPr>
              <a:t>subcutaneous nodul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nd tenosynovitis, without joint deformation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I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erosive changes are more prominent (destruction of the joint head)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joint subluxation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most often MCP and MTP), muscle atrophy, subcutaneous nodules and tenosynovitis,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joint deform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spcAft>
                <a:spcPts val="499"/>
              </a:spcAft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Stage IV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ankylosi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 the changes already described in the stage III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C9BD3-CDB3-453E-8E49-DF8D4D6510D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" descr=""/>
          <p:cNvPicPr/>
          <p:nvPr/>
        </p:nvPicPr>
        <p:blipFill>
          <a:blip r:embed="rId1"/>
          <a:stretch/>
        </p:blipFill>
        <p:spPr>
          <a:xfrm>
            <a:off x="179280" y="4076640"/>
            <a:ext cx="5545080" cy="24465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2"/>
          <p:cNvSpPr/>
          <p:nvPr/>
        </p:nvSpPr>
        <p:spPr>
          <a:xfrm>
            <a:off x="3995640" y="189000"/>
            <a:ext cx="49784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orning stiffness (&gt; 30min),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Pai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 </a:t>
            </a:r>
            <a:br>
              <a:rPr sz="2000"/>
            </a:b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Swelling of the symmetrical joint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: MCP, MTP, PIP, wrist and other joints,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but the spine never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B1AB4-A727-498C-9BAE-379C5431A49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2"/>
          <a:srcRect l="0" t="0" r="12492" b="3000"/>
          <a:stretch/>
        </p:blipFill>
        <p:spPr>
          <a:xfrm>
            <a:off x="539640" y="549360"/>
            <a:ext cx="3333960" cy="29559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3"/>
          <a:stretch/>
        </p:blipFill>
        <p:spPr>
          <a:xfrm>
            <a:off x="5780160" y="2077920"/>
            <a:ext cx="3240000" cy="30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11280" y="1000080"/>
            <a:ext cx="8229600" cy="40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n to suspect RA?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three or more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welling of MTP or MCP joint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itive squeeze tes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ning stiffness &gt; 30 mi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9425-2192-413C-BF6D-4365CEFDC24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 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1187280" y="160020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Laboratory test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presence of inflammatory proces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P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alyses which indicate the influence of immunological and other complaints during development of R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RF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nti C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+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5ABFF-CDAC-4EA6-B2BF-248937AD0A0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44360" y="189000"/>
            <a:ext cx="89996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CR/EULAR classification criteria for RA</a:t>
            </a:r>
            <a:r>
              <a:rPr b="1" lang="sr-Latn-C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010</a:t>
            </a:r>
            <a:br>
              <a:rPr sz="3200"/>
            </a:b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A score 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  <a:ea typeface="Arial"/>
              </a:rPr>
              <a:t>≥ 6</a:t>
            </a:r>
            <a:r>
              <a:rPr b="1" lang="sr-Latn-CS" sz="2200" spc="-1" strike="noStrike">
                <a:solidFill>
                  <a:srgbClr val="ff0000"/>
                </a:solidFill>
                <a:latin typeface="Calibri"/>
              </a:rPr>
              <a:t> points is required for classification as definite RA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2"/>
          <p:cNvGrpSpPr/>
          <p:nvPr/>
        </p:nvGrpSpPr>
        <p:grpSpPr>
          <a:xfrm>
            <a:off x="457200" y="1484280"/>
            <a:ext cx="8055000" cy="1719360"/>
            <a:chOff x="457200" y="1484280"/>
            <a:chExt cx="8055000" cy="1719360"/>
          </a:xfrm>
        </p:grpSpPr>
        <p:sp>
          <p:nvSpPr>
            <p:cNvPr id="174" name="Rectangle 3"/>
            <p:cNvSpPr/>
            <p:nvPr/>
          </p:nvSpPr>
          <p:spPr>
            <a:xfrm>
              <a:off x="457200" y="1484280"/>
              <a:ext cx="3093480" cy="1710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) Joint involvement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4"/>
            <p:cNvSpPr/>
            <p:nvPr/>
          </p:nvSpPr>
          <p:spPr>
            <a:xfrm>
              <a:off x="3563280" y="14842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 medium-sized joint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7131240" y="14842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563280" y="182844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-10  medium-sized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7"/>
            <p:cNvSpPr/>
            <p:nvPr/>
          </p:nvSpPr>
          <p:spPr>
            <a:xfrm>
              <a:off x="7131240" y="182844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8"/>
            <p:cNvSpPr/>
            <p:nvPr/>
          </p:nvSpPr>
          <p:spPr>
            <a:xfrm>
              <a:off x="3563280" y="2172600"/>
              <a:ext cx="35600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-3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9"/>
            <p:cNvSpPr/>
            <p:nvPr/>
          </p:nvSpPr>
          <p:spPr>
            <a:xfrm>
              <a:off x="7131240" y="2172600"/>
              <a:ext cx="1371240" cy="3344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0"/>
            <p:cNvSpPr/>
            <p:nvPr/>
          </p:nvSpPr>
          <p:spPr>
            <a:xfrm>
              <a:off x="3563280" y="2512080"/>
              <a:ext cx="35600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4-10 large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1"/>
            <p:cNvSpPr/>
            <p:nvPr/>
          </p:nvSpPr>
          <p:spPr>
            <a:xfrm>
              <a:off x="7131240" y="2512080"/>
              <a:ext cx="1371240" cy="33588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3563280" y="2857680"/>
              <a:ext cx="35600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gt;10 small joint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3"/>
            <p:cNvSpPr/>
            <p:nvPr/>
          </p:nvSpPr>
          <p:spPr>
            <a:xfrm>
              <a:off x="7131240" y="2857680"/>
              <a:ext cx="1371240" cy="3362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356328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Line 15"/>
            <p:cNvSpPr/>
            <p:nvPr/>
          </p:nvSpPr>
          <p:spPr>
            <a:xfrm>
              <a:off x="713124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6"/>
            <p:cNvSpPr/>
            <p:nvPr/>
          </p:nvSpPr>
          <p:spPr>
            <a:xfrm>
              <a:off x="3563280" y="182844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7"/>
            <p:cNvSpPr/>
            <p:nvPr/>
          </p:nvSpPr>
          <p:spPr>
            <a:xfrm>
              <a:off x="3563280" y="217260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8"/>
            <p:cNvSpPr/>
            <p:nvPr/>
          </p:nvSpPr>
          <p:spPr>
            <a:xfrm>
              <a:off x="3563280" y="25120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Line 19"/>
            <p:cNvSpPr/>
            <p:nvPr/>
          </p:nvSpPr>
          <p:spPr>
            <a:xfrm>
              <a:off x="3563280" y="2857680"/>
              <a:ext cx="4939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20"/>
            <p:cNvSpPr/>
            <p:nvPr/>
          </p:nvSpPr>
          <p:spPr>
            <a:xfrm>
              <a:off x="457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21"/>
            <p:cNvSpPr/>
            <p:nvPr/>
          </p:nvSpPr>
          <p:spPr>
            <a:xfrm>
              <a:off x="8512200" y="1484280"/>
              <a:ext cx="0" cy="1710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22"/>
            <p:cNvSpPr/>
            <p:nvPr/>
          </p:nvSpPr>
          <p:spPr>
            <a:xfrm>
              <a:off x="457200" y="148428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Line 23"/>
            <p:cNvSpPr/>
            <p:nvPr/>
          </p:nvSpPr>
          <p:spPr>
            <a:xfrm>
              <a:off x="457200" y="32036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5" name="Group 24"/>
          <p:cNvGrpSpPr/>
          <p:nvPr/>
        </p:nvGrpSpPr>
        <p:grpSpPr>
          <a:xfrm>
            <a:off x="457200" y="3247920"/>
            <a:ext cx="8066160" cy="630360"/>
            <a:chOff x="457200" y="3247920"/>
            <a:chExt cx="8066160" cy="630360"/>
          </a:xfrm>
        </p:grpSpPr>
        <p:sp>
          <p:nvSpPr>
            <p:cNvPr id="196" name="Rectangle 25"/>
            <p:cNvSpPr/>
            <p:nvPr/>
          </p:nvSpPr>
          <p:spPr>
            <a:xfrm>
              <a:off x="457200" y="3247920"/>
              <a:ext cx="3093480" cy="621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2) Duration of synovit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6"/>
            <p:cNvSpPr/>
            <p:nvPr/>
          </p:nvSpPr>
          <p:spPr>
            <a:xfrm>
              <a:off x="3563280" y="3247920"/>
              <a:ext cx="357120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&lt;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6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7"/>
            <p:cNvSpPr/>
            <p:nvPr/>
          </p:nvSpPr>
          <p:spPr>
            <a:xfrm>
              <a:off x="7142400" y="3247920"/>
              <a:ext cx="1371240" cy="3420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28"/>
            <p:cNvSpPr/>
            <p:nvPr/>
          </p:nvSpPr>
          <p:spPr>
            <a:xfrm>
              <a:off x="3563280" y="3599280"/>
              <a:ext cx="357120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≥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weeks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29"/>
            <p:cNvSpPr/>
            <p:nvPr/>
          </p:nvSpPr>
          <p:spPr>
            <a:xfrm>
              <a:off x="7142400" y="3599280"/>
              <a:ext cx="1371240" cy="26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30"/>
            <p:cNvSpPr/>
            <p:nvPr/>
          </p:nvSpPr>
          <p:spPr>
            <a:xfrm>
              <a:off x="356328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>
              <a:off x="71424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32"/>
            <p:cNvSpPr/>
            <p:nvPr/>
          </p:nvSpPr>
          <p:spPr>
            <a:xfrm>
              <a:off x="3563280" y="359928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33"/>
            <p:cNvSpPr/>
            <p:nvPr/>
          </p:nvSpPr>
          <p:spPr>
            <a:xfrm>
              <a:off x="45720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34"/>
            <p:cNvSpPr/>
            <p:nvPr/>
          </p:nvSpPr>
          <p:spPr>
            <a:xfrm>
              <a:off x="8523360" y="3247920"/>
              <a:ext cx="0" cy="621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35"/>
            <p:cNvSpPr/>
            <p:nvPr/>
          </p:nvSpPr>
          <p:spPr>
            <a:xfrm>
              <a:off x="457200" y="324792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36"/>
            <p:cNvSpPr/>
            <p:nvPr/>
          </p:nvSpPr>
          <p:spPr>
            <a:xfrm>
              <a:off x="457200" y="3878280"/>
              <a:ext cx="80568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Group 37"/>
          <p:cNvGrpSpPr/>
          <p:nvPr/>
        </p:nvGrpSpPr>
        <p:grpSpPr>
          <a:xfrm>
            <a:off x="468360" y="3906720"/>
            <a:ext cx="8055000" cy="665280"/>
            <a:chOff x="468360" y="3906720"/>
            <a:chExt cx="8055000" cy="665280"/>
          </a:xfrm>
        </p:grpSpPr>
        <p:sp>
          <p:nvSpPr>
            <p:cNvPr id="209" name="Rectangle 38"/>
            <p:cNvSpPr/>
            <p:nvPr/>
          </p:nvSpPr>
          <p:spPr>
            <a:xfrm>
              <a:off x="468360" y="3906720"/>
              <a:ext cx="3080520" cy="6559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3) Acute phase response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39"/>
            <p:cNvSpPr/>
            <p:nvPr/>
          </p:nvSpPr>
          <p:spPr>
            <a:xfrm>
              <a:off x="3563280" y="3906720"/>
              <a:ext cx="35852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ormal levels of both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d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0"/>
            <p:cNvSpPr/>
            <p:nvPr/>
          </p:nvSpPr>
          <p:spPr>
            <a:xfrm>
              <a:off x="7155000" y="3906720"/>
              <a:ext cx="1358640" cy="32472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1"/>
            <p:cNvSpPr/>
            <p:nvPr/>
          </p:nvSpPr>
          <p:spPr>
            <a:xfrm>
              <a:off x="3563280" y="4239360"/>
              <a:ext cx="35852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bnormal levels of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RP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or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 S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2"/>
            <p:cNvSpPr/>
            <p:nvPr/>
          </p:nvSpPr>
          <p:spPr>
            <a:xfrm>
              <a:off x="7155000" y="4239360"/>
              <a:ext cx="1358640" cy="320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43"/>
            <p:cNvSpPr/>
            <p:nvPr/>
          </p:nvSpPr>
          <p:spPr>
            <a:xfrm>
              <a:off x="356328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44"/>
            <p:cNvSpPr/>
            <p:nvPr/>
          </p:nvSpPr>
          <p:spPr>
            <a:xfrm>
              <a:off x="715500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45"/>
            <p:cNvSpPr/>
            <p:nvPr/>
          </p:nvSpPr>
          <p:spPr>
            <a:xfrm>
              <a:off x="3563280" y="4239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46"/>
            <p:cNvSpPr/>
            <p:nvPr/>
          </p:nvSpPr>
          <p:spPr>
            <a:xfrm>
              <a:off x="468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47"/>
            <p:cNvSpPr/>
            <p:nvPr/>
          </p:nvSpPr>
          <p:spPr>
            <a:xfrm>
              <a:off x="8523360" y="3906720"/>
              <a:ext cx="0" cy="65592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48"/>
            <p:cNvSpPr/>
            <p:nvPr/>
          </p:nvSpPr>
          <p:spPr>
            <a:xfrm>
              <a:off x="468360" y="390672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49"/>
            <p:cNvSpPr/>
            <p:nvPr/>
          </p:nvSpPr>
          <p:spPr>
            <a:xfrm>
              <a:off x="468360" y="457200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1" name="Rectangle 50"/>
          <p:cNvSpPr/>
          <p:nvPr/>
        </p:nvSpPr>
        <p:spPr>
          <a:xfrm>
            <a:off x="0" y="6248520"/>
            <a:ext cx="23623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295600" y="6620040"/>
            <a:ext cx="44301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76480">
              <a:lnSpc>
                <a:spcPct val="100000"/>
              </a:lnSpc>
              <a:tabLst>
                <a:tab algn="l" pos="0"/>
                <a:tab algn="l" pos="285840"/>
                <a:tab algn="l" pos="743040"/>
                <a:tab algn="l" pos="1200240"/>
                <a:tab algn="l" pos="1657440"/>
                <a:tab algn="l" pos="2114640"/>
                <a:tab algn="l" pos="2571840"/>
                <a:tab algn="l" pos="3029040"/>
                <a:tab algn="l" pos="3486240"/>
                <a:tab algn="l" pos="3943440"/>
                <a:tab algn="l" pos="4400640"/>
                <a:tab algn="l" pos="4857840"/>
                <a:tab algn="l" pos="5315040"/>
                <a:tab algn="l" pos="5772240"/>
                <a:tab algn="l" pos="6229440"/>
                <a:tab algn="l" pos="6686640"/>
                <a:tab algn="l" pos="7143840"/>
                <a:tab algn="l" pos="7601040"/>
                <a:tab algn="l" pos="8058240"/>
                <a:tab algn="l" pos="8515440"/>
                <a:tab algn="l" pos="8972640"/>
                <a:tab algn="l" pos="942984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letaha D. et al. Ann Rheum Dis 2010 69: 1580-1588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Group 52"/>
          <p:cNvGrpSpPr/>
          <p:nvPr/>
        </p:nvGrpSpPr>
        <p:grpSpPr>
          <a:xfrm>
            <a:off x="468360" y="4641840"/>
            <a:ext cx="8055000" cy="1984320"/>
            <a:chOff x="468360" y="4641840"/>
            <a:chExt cx="8055000" cy="1984320"/>
          </a:xfrm>
        </p:grpSpPr>
        <p:sp>
          <p:nvSpPr>
            <p:cNvPr id="224" name="Rectangle 53"/>
            <p:cNvSpPr/>
            <p:nvPr/>
          </p:nvSpPr>
          <p:spPr>
            <a:xfrm>
              <a:off x="468360" y="4641840"/>
              <a:ext cx="3080520" cy="197460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) Serology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4"/>
            <p:cNvSpPr/>
            <p:nvPr/>
          </p:nvSpPr>
          <p:spPr>
            <a:xfrm>
              <a:off x="3563280" y="4641840"/>
              <a:ext cx="357120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Negative RF 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5"/>
            <p:cNvSpPr/>
            <p:nvPr/>
          </p:nvSpPr>
          <p:spPr>
            <a:xfrm>
              <a:off x="7142400" y="4641840"/>
              <a:ext cx="1371240" cy="3236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6"/>
            <p:cNvSpPr/>
            <p:nvPr/>
          </p:nvSpPr>
          <p:spPr>
            <a:xfrm>
              <a:off x="3563280" y="497484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low titer: maximum 3 times above the upper reference value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7"/>
            <p:cNvSpPr/>
            <p:nvPr/>
          </p:nvSpPr>
          <p:spPr>
            <a:xfrm>
              <a:off x="7142400" y="497484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58"/>
            <p:cNvSpPr/>
            <p:nvPr/>
          </p:nvSpPr>
          <p:spPr>
            <a:xfrm>
              <a:off x="3563280" y="5796360"/>
              <a:ext cx="357120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t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RF and/or C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P positive at high titer:  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  <a:ea typeface="Times New Roman"/>
                </a:rPr>
                <a:t>&gt;</a:t>
              </a: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 times above the upper reference value    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59"/>
            <p:cNvSpPr/>
            <p:nvPr/>
          </p:nvSpPr>
          <p:spPr>
            <a:xfrm>
              <a:off x="7142400" y="5796360"/>
              <a:ext cx="1371240" cy="815040"/>
            </a:xfrm>
            <a:prstGeom prst="rect">
              <a:avLst/>
            </a:prstGeom>
            <a:solidFill>
              <a:srgbClr val="eaf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640" bIns="4464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i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60"/>
            <p:cNvSpPr/>
            <p:nvPr/>
          </p:nvSpPr>
          <p:spPr>
            <a:xfrm>
              <a:off x="356328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61"/>
            <p:cNvSpPr/>
            <p:nvPr/>
          </p:nvSpPr>
          <p:spPr>
            <a:xfrm>
              <a:off x="714240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62"/>
            <p:cNvSpPr/>
            <p:nvPr/>
          </p:nvSpPr>
          <p:spPr>
            <a:xfrm>
              <a:off x="3563280" y="497484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63"/>
            <p:cNvSpPr/>
            <p:nvPr/>
          </p:nvSpPr>
          <p:spPr>
            <a:xfrm>
              <a:off x="3563280" y="5796360"/>
              <a:ext cx="49503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64"/>
            <p:cNvSpPr/>
            <p:nvPr/>
          </p:nvSpPr>
          <p:spPr>
            <a:xfrm>
              <a:off x="468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65"/>
            <p:cNvSpPr/>
            <p:nvPr/>
          </p:nvSpPr>
          <p:spPr>
            <a:xfrm>
              <a:off x="8523360" y="4641840"/>
              <a:ext cx="0" cy="197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66"/>
            <p:cNvSpPr/>
            <p:nvPr/>
          </p:nvSpPr>
          <p:spPr>
            <a:xfrm>
              <a:off x="468360" y="464184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67"/>
            <p:cNvSpPr/>
            <p:nvPr/>
          </p:nvSpPr>
          <p:spPr>
            <a:xfrm>
              <a:off x="468360" y="6626160"/>
              <a:ext cx="8045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9" name="Text Box 6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3D8638-C9E4-4B6D-8C14-B7EFE2E38F8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324000" y="1600200"/>
            <a:ext cx="83516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IM of treatment is th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aintenance of functional capacity of the locomotive apparatu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joints and muscles, for enabling the patient as much as possible for performance of basic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activities of daily living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professional 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1A0C6-509D-4A4D-88B6-D17464273C1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1"/>
          <p:cNvSpPr/>
          <p:nvPr/>
        </p:nvSpPr>
        <p:spPr>
          <a:xfrm>
            <a:off x="457200" y="673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 of R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755640" y="2314440"/>
            <a:ext cx="7632720" cy="42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Medicamentous therapy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SAIDs, glycocorticoids, disease-modifying medicines, biological therap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ormation and edu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4BE6A-4B40-449A-9BDE-13D5F55B344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Аcute phase –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phase of active synovit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Joint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unload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Prevention of joint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formiti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positioning of an extremity,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by use of plastic orthoses or plaster splints, which are removed during day for performing 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– reduction of inflammation and pain, 5-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mi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Sta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isometric) contraction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7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 General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inactivity and resting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0CFCF-BBCF-4A35-8C3F-A1D3EFD7765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1"/>
          <p:cNvSpPr/>
          <p:nvPr/>
        </p:nvSpPr>
        <p:spPr>
          <a:xfrm>
            <a:off x="422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rtho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C56C62-1009-4BE4-94A7-1BBCCDFC97B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684360" y="2421000"/>
            <a:ext cx="2736720" cy="23781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2"/>
          <a:stretch/>
        </p:blipFill>
        <p:spPr>
          <a:xfrm>
            <a:off x="3708360" y="1844640"/>
            <a:ext cx="2158920" cy="3051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"/>
          <p:cNvPicPr/>
          <p:nvPr/>
        </p:nvPicPr>
        <p:blipFill>
          <a:blip r:embed="rId3"/>
          <a:stretch/>
        </p:blipFill>
        <p:spPr>
          <a:xfrm>
            <a:off x="6176880" y="1557360"/>
            <a:ext cx="2067120" cy="38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1"/>
          <p:cNvSpPr/>
          <p:nvPr/>
        </p:nvSpPr>
        <p:spPr>
          <a:xfrm>
            <a:off x="468360" y="404640"/>
            <a:ext cx="822960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539640" y="1197000"/>
            <a:ext cx="81471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Aims of kinesitherap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muscle atrophy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Prevention of development of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оsteoporosi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bone destruction due to inactivit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CB1270-5C2B-4ED6-BB8F-C44B03A8AF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"/>
          <p:cNvSpPr/>
          <p:nvPr/>
        </p:nvSpPr>
        <p:spPr>
          <a:xfrm>
            <a:off x="39528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457200" y="1619280"/>
            <a:ext cx="8229600" cy="40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Rheumatic diseases are etyologically, pathogenetically, clinically and therapeutically a heterogenous group of diseases.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ymptome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in the structures of the locomotive apparatu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main </a:t>
            </a:r>
            <a:r>
              <a:rPr b="1" lang="ru-RU" sz="2600" spc="-1" strike="noStrike">
                <a:solidFill>
                  <a:srgbClr val="000000"/>
                </a:solidFill>
                <a:latin typeface="Calibri"/>
              </a:rPr>
              <a:t>sig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disrupted function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of the affected par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Some diseases involve other organs and system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CCD4E-8EAF-4E7A-8115-C57F1DCF1CF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Kinesitherapy </a:t>
            </a:r>
            <a:r>
              <a:rPr b="1" lang="sr-CS" sz="3600" spc="-1" strike="noStrike">
                <a:solidFill>
                  <a:srgbClr val="ff0000"/>
                </a:solidFill>
                <a:latin typeface="Calibri"/>
              </a:rPr>
              <a:t>in the acute phase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2"/>
          <p:cNvSpPr/>
          <p:nvPr/>
        </p:nvSpPr>
        <p:spPr>
          <a:xfrm>
            <a:off x="250920" y="1125360"/>
            <a:ext cx="662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tatic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(isometric) contractions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01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On weak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</a:rPr>
              <a:t>еxtensors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 u="sng">
                <a:solidFill>
                  <a:srgbClr val="000000"/>
                </a:solidFill>
                <a:uFillTx/>
                <a:latin typeface="Calibri"/>
              </a:rPr>
              <a:t>for maintenance of muscle mass and strength and prevention of flexor contracture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Can be performed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In all positions, and also 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while wearing splints.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3" descr=""/>
          <p:cNvPicPr/>
          <p:nvPr/>
        </p:nvPicPr>
        <p:blipFill>
          <a:blip r:embed="rId1"/>
          <a:stretch/>
        </p:blipFill>
        <p:spPr>
          <a:xfrm>
            <a:off x="6804000" y="2205000"/>
            <a:ext cx="2152800" cy="212400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32C2-3B99-4450-ACDC-B71509122A1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Physical therapy of RA </a:t>
            </a:r>
            <a:r>
              <a:rPr b="1" lang="sr-CS" sz="3200" spc="-1" strike="noStrike">
                <a:solidFill>
                  <a:srgbClr val="ff0000"/>
                </a:solidFill>
                <a:latin typeface="Calibri"/>
              </a:rPr>
              <a:t>in chronic phase  (remission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2"/>
          <p:cNvSpPr/>
          <p:nvPr/>
        </p:nvSpPr>
        <p:spPr>
          <a:xfrm>
            <a:off x="468360" y="1341360"/>
            <a:ext cx="82296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rmotherapeu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procedure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WD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paraffin wax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lectrotherapy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G; EF with Novocain,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 DDC; IFC; TENS; ES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ulse Magnetic Field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edematou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t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edativ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alges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nti-inflammator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arm local bath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exercise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 for maintenance and improvement of the 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 the damaged joint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ctive resisted exercises with proper dosag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for maintenance and improvement of the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  <a:ea typeface="Microsoft YaHei"/>
              </a:rPr>
              <a:t>muscle strength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joint stabilizers. 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9F8A4-0112-4E5E-89F2-864139F02FE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75564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br>
              <a:rPr sz="4400"/>
            </a:b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14BF4-FADD-4537-9A7B-6F51A58C987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1"/>
          <p:cNvSpPr/>
          <p:nvPr/>
        </p:nvSpPr>
        <p:spPr>
          <a:xfrm>
            <a:off x="395280" y="333360"/>
            <a:ext cx="8263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Ankylosing spondylit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–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2"/>
          <p:cNvSpPr/>
          <p:nvPr/>
        </p:nvSpPr>
        <p:spPr>
          <a:xfrm>
            <a:off x="468360" y="1484280"/>
            <a:ext cx="828036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xial spondyloarthritis (by ASAS defini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hronic inflammatory rheumatic disease characterized by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ynoviti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I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synovial joint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pinal column 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(intervertebral, costovertebral, costotransversal) and more seldom CF, GH and peripheral joint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 algn="just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lesions of muscular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serti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еnthesitis) of the spinal column, ligaments and tendons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elvi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(attachment of annulus fibrosus, anterior and posterior longitudinal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lig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 yellow ligaments),peripheral joints and synchondrosis;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Inflammatory or fibrous lesions of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ther organs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 algn="just"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flammatory lesions of the locomotive apparatus spontaneously end in ossification, o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nkylosis of joints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ossification of insertions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33977-460E-4083-B8B0-DC766CC5F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Morbus Bechterew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2"/>
          <p:cNvSpPr/>
          <p:nvPr/>
        </p:nvSpPr>
        <p:spPr>
          <a:xfrm>
            <a:off x="755640" y="1701720"/>
            <a:ext cx="763272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LAB27 allele is positive in 90 - 95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gative RF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alence in the world 1 – 2%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begins between the ages of 15 and 29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common in men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М : W = 3 : 1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FE0EA-79CD-4B75-99C0-A434A0EF6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1"/>
          <p:cNvSpPr/>
          <p:nvPr/>
        </p:nvSpPr>
        <p:spPr>
          <a:xfrm>
            <a:off x="407880" y="189000"/>
            <a:ext cx="82630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iagnosis - ASAS criteria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3492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F8E710-CBF2-4089-908D-A172F1F09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5027760" y="2058840"/>
            <a:ext cx="3598560" cy="1128960"/>
          </a:xfrm>
          <a:prstGeom prst="rect">
            <a:avLst/>
          </a:prstGeom>
          <a:solidFill>
            <a:srgbClr val="dce6f2">
              <a:alpha val="91000"/>
            </a:srgbClr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293920" y="1192320"/>
            <a:ext cx="4438800" cy="642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Lumbar pain ≥3 months;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age at the onset of symptoms &lt;</a:t>
            </a:r>
            <a:r>
              <a:rPr b="1" lang="sr-Latn-CS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45 years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076720" y="2058840"/>
            <a:ext cx="356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2060"/>
                </a:solidFill>
                <a:latin typeface="Open Sans"/>
              </a:rPr>
              <a:t>2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.  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Verified presence of</a:t>
            </a: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HLAB27</a:t>
            </a:r>
            <a:br>
              <a:rPr sz="18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     + ≥ 2 characteristics of SpA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Text Box 6"/>
          <p:cNvSpPr/>
          <p:nvPr/>
        </p:nvSpPr>
        <p:spPr>
          <a:xfrm>
            <a:off x="1000080" y="2058840"/>
            <a:ext cx="3751200" cy="137268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3360" indent="-333360">
              <a:lnSpc>
                <a:spcPct val="100000"/>
              </a:lnSpc>
              <a:buClr>
                <a:srgbClr val="002060"/>
              </a:buClr>
              <a:buFont typeface="Calibri"/>
              <a:buAutoNum type="arabicPeriod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Verified sacroileitis </a:t>
            </a: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(MRI or X-ray verified signs of acute inflammation acording to modified New York criteria)</a:t>
            </a:r>
            <a:br>
              <a:rPr sz="1600"/>
            </a:b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+ ≥ 1 SpA characteristic 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Text Box 7"/>
          <p:cNvSpPr/>
          <p:nvPr/>
        </p:nvSpPr>
        <p:spPr>
          <a:xfrm>
            <a:off x="2428920" y="3357720"/>
            <a:ext cx="4824360" cy="3288600"/>
          </a:xfrm>
          <a:prstGeom prst="rect">
            <a:avLst/>
          </a:prstGeom>
          <a:solidFill>
            <a:srgbClr val="dce6f2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libri"/>
              </a:rPr>
              <a:t>SpA characteristics</a:t>
            </a:r>
            <a:r>
              <a:rPr b="1" lang="en-US" sz="1600" spc="-1" strike="noStrike">
                <a:solidFill>
                  <a:srgbClr val="002060"/>
                </a:solidFill>
                <a:latin typeface="Calibri"/>
              </a:rPr>
              <a:t>: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flammatory lumbar pain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enthesitis (heel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uve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arthr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dacty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psoria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collit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good response to NSAID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SpA in the family anamnesis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+ HLAB27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Calibri"/>
              </a:rPr>
              <a:t>increased level of CRP (SpA characteristic only in the context of chronic lumbar pain)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79" name="AutoShape 8"/>
          <p:cNvCxnSpPr/>
          <p:nvPr/>
        </p:nvCxnSpPr>
        <p:spPr>
          <a:xfrm flipH="1">
            <a:off x="2995200" y="1790280"/>
            <a:ext cx="216720" cy="26892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0" name="AutoShape 9"/>
          <p:cNvCxnSpPr/>
          <p:nvPr/>
        </p:nvCxnSpPr>
        <p:spPr>
          <a:xfrm>
            <a:off x="5796000" y="1775880"/>
            <a:ext cx="289440" cy="275400"/>
          </a:xfrm>
          <a:prstGeom prst="straightConnector1">
            <a:avLst/>
          </a:prstGeom>
          <a:ln cap="sq"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1"/>
          <p:cNvSpPr/>
          <p:nvPr/>
        </p:nvSpPr>
        <p:spPr>
          <a:xfrm>
            <a:off x="395280" y="20520"/>
            <a:ext cx="82630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Clinical characteristics of A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2"/>
          <p:cNvGrpSpPr/>
          <p:nvPr/>
        </p:nvGrpSpPr>
        <p:grpSpPr>
          <a:xfrm>
            <a:off x="179280" y="765000"/>
            <a:ext cx="8775720" cy="5811840"/>
            <a:chOff x="179280" y="765000"/>
            <a:chExt cx="8775720" cy="5811840"/>
          </a:xfrm>
        </p:grpSpPr>
        <p:sp>
          <p:nvSpPr>
            <p:cNvPr id="283" name="Rectangle 3"/>
            <p:cNvSpPr/>
            <p:nvPr/>
          </p:nvSpPr>
          <p:spPr>
            <a:xfrm>
              <a:off x="179280" y="765000"/>
              <a:ext cx="273924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4"/>
            <p:cNvSpPr/>
            <p:nvPr/>
          </p:nvSpPr>
          <p:spPr>
            <a:xfrm>
              <a:off x="2928240" y="765000"/>
              <a:ext cx="6016680" cy="2093400"/>
            </a:xfrm>
            <a:prstGeom prst="rect">
              <a:avLst/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xial arthritis (sacroiliitis, spondy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Arthritis „of the waist joints“ (hips and shoulder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eripheral arthritis more seldom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Other: enthesitis, osteoporosis, vertebral fractures, spondylodiscitis, pseudoarthrosis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179280" y="2866320"/>
              <a:ext cx="273924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EXTRASKELETAL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6"/>
            <p:cNvSpPr/>
            <p:nvPr/>
          </p:nvSpPr>
          <p:spPr>
            <a:xfrm>
              <a:off x="2928240" y="2866320"/>
              <a:ext cx="6016680" cy="2090160"/>
            </a:xfrm>
            <a:prstGeom prst="rect">
              <a:avLst/>
            </a:prstGeom>
            <a:solidFill>
              <a:srgbClr val="d0e3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cute anterior uveitis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Cardiovascular disorders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 (aortic insufficiency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espiratory disorders (lung fibros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Lesions of the intestinal mucosa (Chron's disease/collitis)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soriasis 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7"/>
            <p:cNvSpPr/>
            <p:nvPr/>
          </p:nvSpPr>
          <p:spPr>
            <a:xfrm>
              <a:off x="179280" y="4962600"/>
              <a:ext cx="273924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SYSTEMIC MANIFESTATIONS</a:t>
              </a:r>
              <a:endParaRPr b="0" i="1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8"/>
            <p:cNvSpPr/>
            <p:nvPr/>
          </p:nvSpPr>
          <p:spPr>
            <a:xfrm>
              <a:off x="2928240" y="4962600"/>
              <a:ext cx="6016680" cy="1602720"/>
            </a:xfrm>
            <a:prstGeom prst="rect">
              <a:avLst/>
            </a:prstGeom>
            <a:solidFill>
              <a:srgbClr val="e9f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Fatigue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Weight loss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orexia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Night sweating </a:t>
              </a:r>
              <a:br>
                <a:rPr sz="2000"/>
              </a:br>
              <a:r>
                <a:rPr b="1" lang="sr-Latn-CS" sz="2000" spc="-1" strike="noStrike">
                  <a:solidFill>
                    <a:srgbClr val="000000"/>
                  </a:solidFill>
                  <a:latin typeface="Calibri"/>
                </a:rPr>
                <a:t>Anemia</a:t>
              </a:r>
              <a:endParaRPr b="0" i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"/>
            <p:cNvSpPr/>
            <p:nvPr/>
          </p:nvSpPr>
          <p:spPr>
            <a:xfrm>
              <a:off x="292824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10"/>
            <p:cNvSpPr/>
            <p:nvPr/>
          </p:nvSpPr>
          <p:spPr>
            <a:xfrm>
              <a:off x="179280" y="2866320"/>
              <a:ext cx="8766000" cy="0"/>
            </a:xfrm>
            <a:prstGeom prst="line">
              <a:avLst/>
            </a:prstGeom>
            <a:ln cap="sq"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11"/>
            <p:cNvSpPr/>
            <p:nvPr/>
          </p:nvSpPr>
          <p:spPr>
            <a:xfrm>
              <a:off x="179280" y="49626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2"/>
            <p:cNvSpPr/>
            <p:nvPr/>
          </p:nvSpPr>
          <p:spPr>
            <a:xfrm>
              <a:off x="17928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3"/>
            <p:cNvSpPr/>
            <p:nvPr/>
          </p:nvSpPr>
          <p:spPr>
            <a:xfrm>
              <a:off x="8955000" y="765000"/>
              <a:ext cx="0" cy="580212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4"/>
            <p:cNvSpPr/>
            <p:nvPr/>
          </p:nvSpPr>
          <p:spPr>
            <a:xfrm>
              <a:off x="179280" y="76500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5"/>
            <p:cNvSpPr/>
            <p:nvPr/>
          </p:nvSpPr>
          <p:spPr>
            <a:xfrm>
              <a:off x="179280" y="6576840"/>
              <a:ext cx="8766000" cy="0"/>
            </a:xfrm>
            <a:prstGeom prst="line">
              <a:avLst/>
            </a:prstGeom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6" name="Text Box 1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638527-D753-41B8-B36C-C2E84DCEF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412920" y="476280"/>
            <a:ext cx="8262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plication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Text Box 2"/>
          <p:cNvSpPr/>
          <p:nvPr/>
        </p:nvSpPr>
        <p:spPr>
          <a:xfrm>
            <a:off x="395280" y="1197000"/>
            <a:ext cx="8280360" cy="55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involving locomotive system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Kyphosis, kyphoscoli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Atlanto-axial disloca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 !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steopor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Vertebral body fractur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Cauda equina syndrome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xtravertebral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nkylosis of peripheral joint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EXTRA-ARTICULAR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Amyloido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Nephrolythiasis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672C0-E0AA-4F87-A9DE-53F9853FA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"/>
          <p:cNvPicPr/>
          <p:nvPr/>
        </p:nvPicPr>
        <p:blipFill>
          <a:blip r:embed="rId1"/>
          <a:srcRect l="46407" t="5988" r="4278" b="9862"/>
          <a:stretch/>
        </p:blipFill>
        <p:spPr>
          <a:xfrm>
            <a:off x="5508720" y="1743120"/>
            <a:ext cx="3419280" cy="47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ru-RU" sz="2900" spc="-1" strike="noStrike">
                <a:solidFill>
                  <a:srgbClr val="000000"/>
                </a:solidFill>
                <a:latin typeface="Palatino Linotype"/>
              </a:rPr>
              <a:t>Functional assesment through specifc tes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pecific instrument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(tests) for A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BA524-C77B-4BD1-A66B-3878E6713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1187280" y="1308240"/>
            <a:ext cx="81360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23360" rIns="2223360" tIns="914040" bIns="4572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1000"/>
            </a:b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74680" y="2378160"/>
            <a:ext cx="8427960" cy="3919320"/>
            <a:chOff x="274680" y="2378160"/>
            <a:chExt cx="8427960" cy="3919320"/>
          </a:xfrm>
        </p:grpSpPr>
        <p:sp>
          <p:nvSpPr>
            <p:cNvPr id="305" name="Rectangle 5"/>
            <p:cNvSpPr/>
            <p:nvPr/>
          </p:nvSpPr>
          <p:spPr>
            <a:xfrm>
              <a:off x="274680" y="2378160"/>
              <a:ext cx="581508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INSTRUMENT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>
              <a:off x="6099480" y="2378160"/>
              <a:ext cx="2589840" cy="63144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EASURES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7"/>
            <p:cNvSpPr/>
            <p:nvPr/>
          </p:nvSpPr>
          <p:spPr>
            <a:xfrm>
              <a:off x="274680" y="3017520"/>
              <a:ext cx="581508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disease activity index (BASDA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8"/>
            <p:cNvSpPr/>
            <p:nvPr/>
          </p:nvSpPr>
          <p:spPr>
            <a:xfrm>
              <a:off x="6099480" y="3017520"/>
              <a:ext cx="2589840" cy="7866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egree of disease activity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9"/>
            <p:cNvSpPr/>
            <p:nvPr/>
          </p:nvSpPr>
          <p:spPr>
            <a:xfrm>
              <a:off x="274680" y="3814200"/>
              <a:ext cx="581508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functional index (BAS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0"/>
            <p:cNvSpPr/>
            <p:nvPr/>
          </p:nvSpPr>
          <p:spPr>
            <a:xfrm>
              <a:off x="6099480" y="3814200"/>
              <a:ext cx="2589840" cy="534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1"/>
            <p:cNvSpPr/>
            <p:nvPr/>
          </p:nvSpPr>
          <p:spPr>
            <a:xfrm>
              <a:off x="274680" y="4350240"/>
              <a:ext cx="581508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Dougados functional index (DF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6099480" y="4350240"/>
              <a:ext cx="2589840" cy="52200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74680" y="4880160"/>
              <a:ext cx="581508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Bath ankylosing spondylitis metrology index (BASMI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6099480" y="4880160"/>
              <a:ext cx="2589840" cy="588600"/>
            </a:xfrm>
            <a:prstGeom prst="rect">
              <a:avLst/>
            </a:prstGeom>
            <a:solidFill>
              <a:srgbClr val="ffe8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Function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274680" y="5477040"/>
              <a:ext cx="581508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Modified stoke ankylosing spondylitis spinal score (m-SASSS)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6099480" y="5477040"/>
              <a:ext cx="2589840" cy="808920"/>
            </a:xfrm>
            <a:prstGeom prst="rect">
              <a:avLst/>
            </a:prstGeom>
            <a:solidFill>
              <a:srgbClr val="ffce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5560" rIns="2556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Open Sans"/>
                </a:rPr>
                <a:t>Structural damage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7"/>
            <p:cNvSpPr/>
            <p:nvPr/>
          </p:nvSpPr>
          <p:spPr>
            <a:xfrm>
              <a:off x="60994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8"/>
            <p:cNvSpPr/>
            <p:nvPr/>
          </p:nvSpPr>
          <p:spPr>
            <a:xfrm>
              <a:off x="274680" y="3018960"/>
              <a:ext cx="841824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9"/>
            <p:cNvSpPr/>
            <p:nvPr/>
          </p:nvSpPr>
          <p:spPr>
            <a:xfrm>
              <a:off x="274680" y="381420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0"/>
            <p:cNvSpPr/>
            <p:nvPr/>
          </p:nvSpPr>
          <p:spPr>
            <a:xfrm>
              <a:off x="274680" y="43502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1"/>
            <p:cNvSpPr/>
            <p:nvPr/>
          </p:nvSpPr>
          <p:spPr>
            <a:xfrm>
              <a:off x="274680" y="4880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2"/>
            <p:cNvSpPr/>
            <p:nvPr/>
          </p:nvSpPr>
          <p:spPr>
            <a:xfrm>
              <a:off x="274680" y="547704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3"/>
            <p:cNvSpPr/>
            <p:nvPr/>
          </p:nvSpPr>
          <p:spPr>
            <a:xfrm>
              <a:off x="27468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"/>
            <p:cNvSpPr/>
            <p:nvPr/>
          </p:nvSpPr>
          <p:spPr>
            <a:xfrm>
              <a:off x="8702640" y="2378160"/>
              <a:ext cx="0" cy="39114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25"/>
            <p:cNvSpPr/>
            <p:nvPr/>
          </p:nvSpPr>
          <p:spPr>
            <a:xfrm>
              <a:off x="274680" y="237816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6"/>
            <p:cNvSpPr/>
            <p:nvPr/>
          </p:nvSpPr>
          <p:spPr>
            <a:xfrm>
              <a:off x="274680" y="6297480"/>
              <a:ext cx="84182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1"/>
          <p:cNvSpPr/>
          <p:nvPr/>
        </p:nvSpPr>
        <p:spPr>
          <a:xfrm>
            <a:off x="68436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asurment of the spinal column mobilit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8BE126-0C33-46DE-81C5-BF3CB724A9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Epidemiolog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557360"/>
            <a:ext cx="822960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heumatic diseases are characterized b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great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frequenc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every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7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th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patient who seeks medical help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w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mortality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rate (as a cause of death they make a negligible share of 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01 ‰)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long-term </a:t>
            </a: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sickleave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the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or 2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nd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employee absenteeism)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disabilit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Microsoft YaHei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</a:t>
            </a:r>
            <a:r>
              <a:rPr b="0" lang="ru-RU" sz="2400" spc="-1" strike="noStrike" baseline="33000">
                <a:solidFill>
                  <a:srgbClr val="000000"/>
                </a:solidFill>
                <a:latin typeface="Calibri"/>
                <a:ea typeface="Microsoft YaHei"/>
              </a:rPr>
              <a:t>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eading cause of physical disability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21E8D-F599-4E4F-BEE1-D54410F0F1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ngertip-to-Floo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2"/>
          <p:cNvSpPr/>
          <p:nvPr/>
        </p:nvSpPr>
        <p:spPr>
          <a:xfrm>
            <a:off x="428760" y="1643040"/>
            <a:ext cx="497196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alibri"/>
              </a:rPr>
              <a:t>Sagittal mobility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bending forward to the point of pain with the knees extended;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Fingertips to floor distanc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measured in c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04878E-F61C-44FA-96FC-9A15F7465DE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1"/>
          <p:cNvSpPr/>
          <p:nvPr/>
        </p:nvSpPr>
        <p:spPr>
          <a:xfrm>
            <a:off x="457200" y="270000"/>
            <a:ext cx="8507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libri"/>
              </a:rPr>
              <a:t>Range of motion of the cervical spin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457200" y="1566720"/>
            <a:ext cx="822960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ex/ext              lateroflexio                      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3" descr=""/>
          <p:cNvPicPr/>
          <p:nvPr/>
        </p:nvPicPr>
        <p:blipFill>
          <a:blip r:embed="rId1"/>
          <a:stretch/>
        </p:blipFill>
        <p:spPr>
          <a:xfrm>
            <a:off x="395280" y="4464000"/>
            <a:ext cx="2322360" cy="18176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4" descr=""/>
          <p:cNvPicPr/>
          <p:nvPr/>
        </p:nvPicPr>
        <p:blipFill>
          <a:blip r:embed="rId2"/>
          <a:stretch/>
        </p:blipFill>
        <p:spPr>
          <a:xfrm>
            <a:off x="3492360" y="4608360"/>
            <a:ext cx="2232000" cy="15289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3"/>
          <a:stretch/>
        </p:blipFill>
        <p:spPr>
          <a:xfrm>
            <a:off x="6500880" y="4714920"/>
            <a:ext cx="1942920" cy="152856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6"/>
          <p:cNvSpPr/>
          <p:nvPr/>
        </p:nvSpPr>
        <p:spPr>
          <a:xfrm>
            <a:off x="6858360" y="392904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rotatio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Оtto test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2"/>
          <p:cNvSpPr/>
          <p:nvPr/>
        </p:nvSpPr>
        <p:spPr>
          <a:xfrm>
            <a:off x="108000" y="2154240"/>
            <a:ext cx="475128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rk C7 segment with a marker, then mark another point 30 cm down the spine 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maximum anteflexion, the distance was greater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an 3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9AB9ED-870D-4AAE-9AD8-14ABA062E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odified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</a:rPr>
              <a:t>Schober test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Text Box 2"/>
          <p:cNvSpPr/>
          <p:nvPr/>
        </p:nvSpPr>
        <p:spPr>
          <a:xfrm>
            <a:off x="971640" y="2735280"/>
            <a:ext cx="70009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asure 10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above and 5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low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L5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The distance should be increased for 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at least 5 cm </a:t>
            </a:r>
            <a:br>
              <a:rPr sz="2800"/>
            </a:b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7FAE2-B6CF-4D10-9624-4D36306ACD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 algn="ctr">
              <a:lnSpc>
                <a:spcPct val="200000"/>
              </a:lnSpc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Lumbar lateroflex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2"/>
          <p:cNvSpPr/>
          <p:nvPr/>
        </p:nvSpPr>
        <p:spPr>
          <a:xfrm>
            <a:off x="45720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Lateral side bending test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The level of the middle finger on each side is marked with a horizontal line on the side of the thigh. The subject is then asked to slowly bend sideways as far as possible and that level is also marked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Font typeface="Wingdings 2" charset="2"/>
              <a:buChar char="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Distance between these two lines is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about 20</a:t>
            </a:r>
            <a:r>
              <a:rPr b="1" lang="sr-Latn-CS" sz="2400" spc="-1" strike="noStrike">
                <a:solidFill>
                  <a:srgbClr val="000000"/>
                </a:solidFill>
                <a:latin typeface="Calibri"/>
              </a:rPr>
              <a:t>cm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healthy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subjects.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BBEAA-0C4F-4AEB-ACC5-6DB25F41A99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1"/>
          <p:cNvSpPr/>
          <p:nvPr/>
        </p:nvSpPr>
        <p:spPr>
          <a:xfrm>
            <a:off x="412920" y="476280"/>
            <a:ext cx="8262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spiratory index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2"/>
          <p:cNvSpPr/>
          <p:nvPr/>
        </p:nvSpPr>
        <p:spPr>
          <a:xfrm>
            <a:off x="395280" y="1557360"/>
            <a:ext cx="7993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At the level of the intercostal space 4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x inspirium – max expirium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pends on age and gender;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ormally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&gt; 5 c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264D7-7982-4CE5-9740-5F97C0D83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Text Box 2"/>
          <p:cNvSpPr/>
          <p:nvPr/>
        </p:nvSpPr>
        <p:spPr>
          <a:xfrm>
            <a:off x="539640" y="1557360"/>
            <a:ext cx="8147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Мedicamentous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: NSAIDs; disease-modifying medicines, biological Т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2. Resting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10-hour night rest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aily from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1-2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3. Education – explain the nature of the diseas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2401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sr-CS" sz="2600" spc="-1" strike="noStrike">
                <a:solidFill>
                  <a:srgbClr val="ff0000"/>
                </a:solidFill>
                <a:latin typeface="Calibri"/>
              </a:rPr>
              <a:t>Physical therapy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duc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pai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aintain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mobility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spine and coxofemoral joint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,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strengthen the function of the </a:t>
            </a:r>
            <a:r>
              <a:rPr b="1" lang="sr-CS" sz="2200" spc="-1" strike="noStrike">
                <a:solidFill>
                  <a:srgbClr val="000000"/>
                </a:solidFill>
                <a:latin typeface="Calibri"/>
                <a:ea typeface="Microsoft YaHei"/>
              </a:rPr>
              <a:t>respiratory muscles.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90000"/>
              </a:lnSpc>
              <a:spcBef>
                <a:spcPts val="3600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16330-8D78-4F19-AF6B-2787B5CFBF5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1"/>
          <p:cNvSpPr/>
          <p:nvPr/>
        </p:nvSpPr>
        <p:spPr>
          <a:xfrm>
            <a:off x="457200" y="274680"/>
            <a:ext cx="822960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2"/>
          <p:cNvSpPr/>
          <p:nvPr/>
        </p:nvSpPr>
        <p:spPr>
          <a:xfrm>
            <a:off x="365040" y="1000080"/>
            <a:ext cx="83646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Ultrasou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high-dos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1 - 1,5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W/cm²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(on both SI joints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; on PVM of the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 spine segment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Calibri"/>
              </a:rPr>
              <a:t>Kinesi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ercises for improvement of the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range of motion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of the spine, exercises for improvement of the range of motion of the hips and shoulde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200" spc="-1" strike="noStrike">
                <a:solidFill>
                  <a:srgbClr val="ff0000"/>
                </a:solidFill>
                <a:latin typeface="Calibri"/>
              </a:rPr>
              <a:t>breathing exercises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- thoracic (costal breathing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„to the point of crying“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Thermotherapy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SWD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frared radi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araffin wax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(pain reducti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muscle relaxation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Electroanalgesia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ble galvanization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F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with vasodilators,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otassium-iodide and hydrocortisons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Dyadynamic currents; Intraferential currents; Electrostimulation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ulse Magnetic Field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Laserotherapy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Calibri"/>
              </a:rPr>
              <a:t>Massage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(reduces pai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, decreases the tone of PVM, improves circulation and local metabolism of the tissues)</a:t>
            </a:r>
            <a:endParaRPr b="0" i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0E345-4810-432A-8BFE-DD3E45D34C3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684360" y="263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"/>
          <p:cNvSpPr/>
          <p:nvPr/>
        </p:nvSpPr>
        <p:spPr>
          <a:xfrm>
            <a:off x="457200" y="668160"/>
            <a:ext cx="822960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sm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 Box 2"/>
          <p:cNvSpPr/>
          <p:nvPr/>
        </p:nvSpPr>
        <p:spPr>
          <a:xfrm>
            <a:off x="755640" y="1484280"/>
            <a:ext cx="75614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Rheumatism of the peripheral joints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rthrose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Degenerative rheumatic disease of the spine – 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spondylos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Cervical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umbar syndrom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9A3ED-F979-42D1-AA71-00BD028F4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457200" y="48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lassification of rheumatic disease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826920" y="2075040"/>
            <a:ext cx="785988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egenerative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Extra-articular 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Rare rheumatic diseases and pararheumatic diseas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04720" indent="-50472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504720"/>
                <a:tab algn="l" pos="961920"/>
                <a:tab algn="l" pos="1419120"/>
                <a:tab algn="l" pos="1876320"/>
                <a:tab algn="l" pos="2333520"/>
                <a:tab algn="l" pos="2790720"/>
                <a:tab algn="l" pos="3247920"/>
                <a:tab algn="l" pos="3705120"/>
                <a:tab algn="l" pos="4162320"/>
                <a:tab algn="l" pos="4619520"/>
                <a:tab algn="l" pos="5076720"/>
                <a:tab algn="l" pos="5533920"/>
                <a:tab algn="l" pos="5991120"/>
                <a:tab algn="l" pos="6448320"/>
                <a:tab algn="l" pos="6905520"/>
                <a:tab algn="l" pos="7362720"/>
                <a:tab algn="l" pos="7819920"/>
                <a:tab algn="l" pos="8277120"/>
                <a:tab algn="l" pos="8734320"/>
                <a:tab algn="l" pos="9191520"/>
                <a:tab algn="l" pos="964872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7976BA-B903-44B5-A57D-C3A2EF89094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108000" y="549360"/>
            <a:ext cx="903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diseases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Text Box 2"/>
          <p:cNvSpPr/>
          <p:nvPr/>
        </p:nvSpPr>
        <p:spPr>
          <a:xfrm>
            <a:off x="1187280" y="1387440"/>
            <a:ext cx="7560000" cy="49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rthroses are defined as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Damage of the joint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cartillage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 proliferation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of the bone ending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Without synovial inflammation,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r if present, it is mild and 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Calibri"/>
              </a:rPr>
              <a:t>secondary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10D36C-E115-4A42-98C7-90E2D1631B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ypes of arthro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457200" y="1600200"/>
            <a:ext cx="3610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RIMARY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iopati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eneralized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v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A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06728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1" lang="sr-Latn-CS" sz="2800" spc="-1" strike="noStrike">
                <a:solidFill>
                  <a:srgbClr val="002060"/>
                </a:solidFill>
                <a:latin typeface="Calibri"/>
              </a:rPr>
              <a:t>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juri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evelopmental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bol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ocrine disorder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flammation of joint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uropathic disorde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reditary disorders in collagen synthesi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50920" y="274680"/>
            <a:ext cx="85690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Degenerative diseases (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аrthroses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) of joint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"/>
          <p:cNvSpPr/>
          <p:nvPr/>
        </p:nvSpPr>
        <p:spPr>
          <a:xfrm>
            <a:off x="457200" y="1197000"/>
            <a:ext cx="598644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33720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900" spc="-1" strike="noStrike">
                <a:solidFill>
                  <a:srgbClr val="000000"/>
                </a:solidFill>
                <a:latin typeface="Calibri"/>
              </a:rPr>
              <a:t>Clinical picture</a:t>
            </a:r>
            <a:endParaRPr b="0" i="1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itially only when overused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Stiffness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– in the morning and after long-term immobilization 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Functional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disorders and joint </a:t>
            </a: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deformations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1" lang="sr-CS" sz="2500" spc="-1" strike="noStrike">
                <a:solidFill>
                  <a:srgbClr val="ff0000"/>
                </a:solidFill>
                <a:latin typeface="Calibri"/>
              </a:rPr>
              <a:t>Crepitation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3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800280"/>
                <a:tab algn="l" pos="1257480"/>
                <a:tab algn="l" pos="1714680"/>
                <a:tab algn="l" pos="2171880"/>
                <a:tab algn="l" pos="2629080"/>
                <a:tab algn="l" pos="3086280"/>
                <a:tab algn="l" pos="3543480"/>
                <a:tab algn="l" pos="4000680"/>
                <a:tab algn="l" pos="4457880"/>
                <a:tab algn="l" pos="4915080"/>
                <a:tab algn="l" pos="5372280"/>
                <a:tab algn="l" pos="5829480"/>
                <a:tab algn="l" pos="6286680"/>
                <a:tab algn="l" pos="6743880"/>
                <a:tab algn="l" pos="7201080"/>
                <a:tab algn="l" pos="7658280"/>
                <a:tab algn="l" pos="8115480"/>
                <a:tab algn="l" pos="8572680"/>
                <a:tab algn="l" pos="9029880"/>
                <a:tab algn="l" pos="9487080"/>
                <a:tab algn="l" pos="9601200"/>
                <a:tab algn="l" pos="10058400"/>
                <a:tab algn="l" pos="105156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Laboratory results - normal</a:t>
            </a:r>
            <a:endParaRPr b="0" i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F2C0-3D5C-425C-928B-53A2A5639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graphic signs of arthr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2"/>
          <p:cNvSpPr/>
          <p:nvPr/>
        </p:nvSpPr>
        <p:spPr>
          <a:xfrm>
            <a:off x="457200" y="2133720"/>
            <a:ext cx="569916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Joint space narrow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chondral sclerosi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steophyt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ysts in the subchondral bo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3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592360" cy="23036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2"/>
          <a:stretch/>
        </p:blipFill>
        <p:spPr>
          <a:xfrm>
            <a:off x="6315120" y="4076640"/>
            <a:ext cx="2504880" cy="1828800"/>
          </a:xfrm>
          <a:prstGeom prst="rect">
            <a:avLst/>
          </a:prstGeom>
          <a:ln w="0">
            <a:noFill/>
          </a:ln>
        </p:spPr>
      </p:pic>
      <p:sp>
        <p:nvSpPr>
          <p:cNvPr id="373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00908-E772-49D0-ADB8-53436EDA7E7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aboratory analy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ext Box 2"/>
          <p:cNvSpPr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There are no specific laboratory tests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ood S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s normal or mildly increased in the subsequent inflammation complica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DE325-72BC-4B5B-97D3-0142221B1C6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1"/>
          <p:cNvSpPr/>
          <p:nvPr/>
        </p:nvSpPr>
        <p:spPr>
          <a:xfrm>
            <a:off x="539640" y="40464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revention of 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"/>
          <p:cNvSpPr/>
          <p:nvPr/>
        </p:nvSpPr>
        <p:spPr>
          <a:xfrm>
            <a:off x="611280" y="1916280"/>
            <a:ext cx="830556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and an early treatment of congenital deforma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ip dislocation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injuri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ducation (adequate body weight, regular moderate physical activity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1"/>
          <p:cNvSpPr/>
          <p:nvPr/>
        </p:nvSpPr>
        <p:spPr>
          <a:xfrm>
            <a:off x="609480" y="762120"/>
            <a:ext cx="7131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edicamentous treatment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Text Box 2"/>
          <p:cNvSpPr/>
          <p:nvPr/>
        </p:nvSpPr>
        <p:spPr>
          <a:xfrm>
            <a:off x="1979640" y="1989000"/>
            <a:ext cx="619452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algesic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NSAID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administered glucocorticoi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hondroprotect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1280"/>
                <a:tab algn="l" pos="798480"/>
                <a:tab algn="l" pos="1255680"/>
                <a:tab algn="l" pos="1712880"/>
                <a:tab algn="l" pos="2170080"/>
                <a:tab algn="l" pos="2627280"/>
                <a:tab algn="l" pos="3084480"/>
                <a:tab algn="l" pos="3541680"/>
                <a:tab algn="l" pos="3998880"/>
                <a:tab algn="l" pos="4456080"/>
                <a:tab algn="l" pos="4913280"/>
                <a:tab algn="l" pos="5370480"/>
                <a:tab algn="l" pos="5827680"/>
                <a:tab algn="l" pos="6284880"/>
                <a:tab algn="l" pos="6742080"/>
                <a:tab algn="l" pos="7199280"/>
                <a:tab algn="l" pos="7656480"/>
                <a:tab algn="l" pos="8113680"/>
                <a:tab algn="l" pos="8570880"/>
                <a:tab algn="l" pos="9028080"/>
                <a:tab algn="l" pos="948528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1"/>
          <p:cNvSpPr/>
          <p:nvPr/>
        </p:nvSpPr>
        <p:spPr>
          <a:xfrm>
            <a:off x="479520" y="260280"/>
            <a:ext cx="757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n-medication treatment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900000" y="1773360"/>
            <a:ext cx="7058160" cy="25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gical treatmen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Deformity correc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905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ndoprosthesis implant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763640" y="1557360"/>
            <a:ext cx="6265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The most frequent kind of arthrosis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Most common in persons aged &gt; 40 years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М=F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250920" y="6245280"/>
            <a:ext cx="39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166BA-26D4-49F2-8CDA-A29C12F0E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Cox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imary or idiopatic –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t is not the result of any known pathological hip condi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about 42%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econdar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oxarthroses develop after various pathological hip cond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bout 40% of all coxarthroses are the consequence of the hip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velopmental disord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Other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fter protrusion of the acetabulum, after injuries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rauma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 inflammatio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tc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77A56D-724B-4B59-A1E1-24CD6C42B85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Combined therapy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50920" y="1600200"/>
            <a:ext cx="3395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edicamentous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algesic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nti-inflammatory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Disease-modifying  medicin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iological therapy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3708360" y="1600200"/>
            <a:ext cx="518472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hysical therapy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circulation and tissue nutri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Better evacuation of the extravasate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vention of muscle atrophy and  contractur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tissue elasticit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Maintenance of the activity of the kinesthetic and motor engram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General condition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CB02D7-2EF6-4087-959E-52489132BB4D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1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Text Box 2"/>
          <p:cNvSpPr/>
          <p:nvPr/>
        </p:nvSpPr>
        <p:spPr>
          <a:xfrm>
            <a:off x="250920" y="1341360"/>
            <a:ext cx="843588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ain when walking —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the basic sign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occurs after 200m, 500m, 1km or more, depending on the degree of coxarthros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t the initial stag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diminishes with rest and when lying down, but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in the late stages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t is felt during the whole day, later even during the night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It is most often localized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in the anterior thigh extending to the knee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r in the anterior inner thigh; more rarely in the posterior thigh or under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7E30F-A9EA-4535-873F-43808CCA094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468360" y="1413000"/>
            <a:ext cx="82296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Progressive limitation of the range of hip motion —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flexion movement is affected at the latest stage, while much more common are limited hip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rotatio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r limited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abduc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are often accompanied by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or audible cracking or clicking sound in a damaged hip, as well as occasional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lock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hip join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 the later stage, the patient experiences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 when putting pressure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 the hip,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ypotroph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f the thigh muscles, or decreased trophy and strength of the thigh muscl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10322-EEE5-4001-A862-711481D3ED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Gonarthro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"/>
          <p:cNvSpPr/>
          <p:nvPr/>
        </p:nvSpPr>
        <p:spPr>
          <a:xfrm>
            <a:off x="1763640" y="1989000"/>
            <a:ext cx="669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y comm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6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30 years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ver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90% of persons older tha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4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1"/>
          <p:cNvSpPr/>
          <p:nvPr/>
        </p:nvSpPr>
        <p:spPr>
          <a:xfrm>
            <a:off x="684360" y="54936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684360" y="1916280"/>
            <a:ext cx="777240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Pa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– the first clinical sig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ually starts on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anterior or inner sid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f the knee, much more rarely on the outer or posterior side, while later, it affects the whol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At the beginning it occurs when walking, especially on uneven ground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A177B-BAA6-42F8-93A1-C81E1D759D6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nical manifestation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Grating sensation,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crepita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in the kne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Locking of the knee joint (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loss of mot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occurs rarely and usually as a consequence of other damages of the joint cartillage or the menisci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Swelling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of the knee and accumulation of fluid in the knee occur at the later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Limitation of movements,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especially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Calibri"/>
              </a:rPr>
              <a:t>flexion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occurs many years later after the onset of the diseas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9DE48-478A-4872-A74C-5A9461D78CC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2"/>
          <p:cNvSpPr/>
          <p:nvPr/>
        </p:nvSpPr>
        <p:spPr>
          <a:xfrm>
            <a:off x="1547640" y="1635120"/>
            <a:ext cx="74995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eventive measure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servativ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: analgesics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NSAID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, locally administered glucocorticoid, chondroprotector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urgical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347CA1-1202-43EE-90EB-A38C65CDC13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Hip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7" name="Picture 2" descr=""/>
          <p:cNvPicPr/>
          <p:nvPr/>
        </p:nvPicPr>
        <p:blipFill>
          <a:blip r:embed="rId1"/>
          <a:stretch/>
        </p:blipFill>
        <p:spPr>
          <a:xfrm>
            <a:off x="1714680" y="2286000"/>
            <a:ext cx="55004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nee endoprosthes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979640" y="1936800"/>
            <a:ext cx="4968720" cy="378144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B40BC1-77D7-4AC9-892E-06B1DD541F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1"/>
          <p:cNvSpPr/>
          <p:nvPr/>
        </p:nvSpPr>
        <p:spPr>
          <a:xfrm>
            <a:off x="457200" y="274680"/>
            <a:ext cx="82296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"/>
          <p:cNvSpPr/>
          <p:nvPr/>
        </p:nvSpPr>
        <p:spPr>
          <a:xfrm>
            <a:off x="324000" y="1197000"/>
            <a:ext cx="846432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Joint unloading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decrease of body weight, a cane,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crutch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inesi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xercises for maintenance and improvement of the strength of the stabilizer muscles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Cry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in swelling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Therm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after resolving inflamm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Elect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SG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F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(potassium-iodide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cortico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IFC, DDC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gnet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Lase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Hydro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DC85D-3BD0-446D-845A-A8AB910C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1"/>
          <p:cNvSpPr/>
          <p:nvPr/>
        </p:nvSpPr>
        <p:spPr>
          <a:xfrm>
            <a:off x="395280" y="549360"/>
            <a:ext cx="822960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alibri"/>
              </a:rPr>
              <a:t>Degenerative rheumatic disease of the spine - spondylosis</a:t>
            </a:r>
            <a:endParaRPr b="0" i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1187280" y="1941480"/>
            <a:ext cx="6624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ervical syndroma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Local cervic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brachi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ceph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Calibri"/>
              <a:buAutoNum type="arabicPeriod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Cervicomedullar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8E4E8-CC67-4B3A-8C77-23FE79D14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404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Aims of medical rehabilitation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900000" y="1557360"/>
            <a:ext cx="7786800" cy="45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 muscl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аtroph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joint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trac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vention of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оsteoporosi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nd bone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destr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due to inactivity;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formation and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еduc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FA53F-D31B-48C7-A31C-A7DEC380A06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1"/>
          <p:cNvSpPr/>
          <p:nvPr/>
        </p:nvSpPr>
        <p:spPr>
          <a:xfrm>
            <a:off x="468360" y="404640"/>
            <a:ext cx="82296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During </a:t>
            </a:r>
            <a:r>
              <a:rPr b="1" lang="sr-Latn-CS" sz="2800" spc="-1" strike="noStrike">
                <a:solidFill>
                  <a:srgbClr val="ff0000"/>
                </a:solidFill>
                <a:latin typeface="Calibri"/>
              </a:rPr>
              <a:t>аcute phase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Locally, on the skin above the muscles located near the cervical spine, 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massage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is applied (</a:t>
            </a:r>
            <a:r>
              <a:rPr b="1" lang="sr-Latn-CS" sz="2800" spc="-1" strike="noStrike">
                <a:solidFill>
                  <a:srgbClr val="000000"/>
                </a:solidFill>
                <a:latin typeface="Calibri"/>
              </a:rPr>
              <a:t>cryowrap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In more severe cases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 stabilization of the cervical spine  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Calibri"/>
              </a:rPr>
              <a:t>in the soft neck brace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(Schantz collar) during the day and night, then only during the night while the symptoms are present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FD05F0-7E0F-4E3B-8061-0849E8A49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Medical rehabilitation of the cervical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1" lang="sr-Latn-CS" sz="2400" spc="-1" strike="noStrike">
                <a:solidFill>
                  <a:srgbClr val="ff0000"/>
                </a:solidFill>
                <a:latin typeface="Calibri"/>
              </a:rPr>
              <a:t>chronic phase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when the pain intensity diminishes, аnd the spine becomes more mobile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dications (analgesics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or NSAIDs as need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For reduction of pain and spasm of the PVM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 procedures in the form of warm compresses, hot baths, shower, 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apeutic ultrasound or sonophoresis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  <a:ea typeface="Microsoft YaHei"/>
              </a:rPr>
              <a:t>traction (stretching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 –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most importan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7C39C-181D-478B-BD1A-2229B690FF0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 Box 1"/>
          <p:cNvSpPr/>
          <p:nvPr/>
        </p:nvSpPr>
        <p:spPr>
          <a:xfrm>
            <a:off x="0" y="630360"/>
            <a:ext cx="9144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syndrome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457200" y="1628640"/>
            <a:ext cx="822960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Lumbalgia</a:t>
            </a:r>
            <a:r>
              <a:rPr b="1" lang="sr-CS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unspecific lumbar pain) (over 95%) – pain in the lower back from the lower ribs to the gluteal lin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ciatic syndrome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5%) - pain spreding usually down one leg, which indicates irritation/compression of the nerve root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Severe spinal pathology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(less than 2%) – progressive neurological deficit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397C5-9F32-40F1-BF3F-66370F35D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lg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ypes according to its duration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lt; 6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subacute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6 -12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chronic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lumbalgi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&gt;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week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Acute lumbalgia occurs due t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Protrusion of the nucleus pulposus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ubluxation of the intervertebral joint (facet joint S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D01B98-EF8A-4563-99B9-C6E88637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Lumbar discus hernia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439957-0679-43F9-BBE3-206078C57D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AutoShape 3"/>
          <p:cNvSpPr/>
          <p:nvPr/>
        </p:nvSpPr>
        <p:spPr>
          <a:xfrm flipV="1" rot="5400000">
            <a:off x="2052360" y="2203560"/>
            <a:ext cx="2087640" cy="1656000"/>
          </a:xfrm>
          <a:prstGeom prst="rtTriangle">
            <a:avLst/>
          </a:prstGeom>
          <a:solidFill>
            <a:srgbClr val="ffffff"/>
          </a:solidFill>
          <a:ln cap="sq"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6920" y="2041560"/>
            <a:ext cx="741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ten between the age of 30 and 50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In more than 95% of cases at the level </a:t>
            </a: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L5 (compression of the root L5) or at the level L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BA" sz="3200" spc="-1" strike="noStrike">
                <a:solidFill>
                  <a:srgbClr val="000000"/>
                </a:solidFill>
                <a:latin typeface="Calibri"/>
              </a:rPr>
              <a:t>S1 (compression of the root S1)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6120" indent="-276120">
              <a:lnSpc>
                <a:spcPct val="100000"/>
              </a:lnSpc>
              <a:tabLst>
                <a:tab algn="l" pos="0"/>
                <a:tab algn="l" pos="27612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601200"/>
                <a:tab algn="l" pos="10058400"/>
                <a:tab algn="l" pos="105156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1"/>
          <p:cNvSpPr/>
          <p:nvPr/>
        </p:nvSpPr>
        <p:spPr>
          <a:xfrm>
            <a:off x="468360" y="568440"/>
            <a:ext cx="8229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Treatment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2"/>
          <p:cNvSpPr/>
          <p:nvPr/>
        </p:nvSpPr>
        <p:spPr>
          <a:xfrm>
            <a:off x="2050920" y="1428840"/>
            <a:ext cx="6131160" cy="47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CONSERVATIVE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Microsoft YaHei"/>
              </a:rPr>
              <a:t>Physical therap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alibri"/>
              </a:rPr>
              <a:t>SURGICAL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C54E9F-F711-40DC-AE30-0D72E2B6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1"/>
          <p:cNvSpPr/>
          <p:nvPr/>
        </p:nvSpPr>
        <p:spPr>
          <a:xfrm>
            <a:off x="46836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457200" y="1052640"/>
            <a:ext cx="843588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ying in b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(CAUTION!!!)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and activity;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traction</a:t>
            </a:r>
            <a:r>
              <a:rPr b="0" lang="sr-Latn-BA" sz="2400" spc="-1" strike="noStrike">
                <a:solidFill>
                  <a:srgbClr val="ff0000"/>
                </a:solidFill>
                <a:latin typeface="Calibri"/>
                <a:ea typeface="Microsoft YaHei"/>
              </a:rPr>
              <a:t> </a:t>
            </a: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of the lumbar spi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;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edicamentous therapy (antiphlogistics, analgesics, sedativ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)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75"/>
              </a:spcBef>
              <a:tabLst>
                <a:tab algn="l" pos="0"/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endParaRPr b="0" i="1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60000"/>
              </a:lnSpc>
              <a:spcBef>
                <a:spcPts val="649"/>
              </a:spcBef>
              <a:buClr>
                <a:srgbClr val="ff0000"/>
              </a:buClr>
              <a:buFont typeface="Wingdings 2" charset="2"/>
              <a:buChar char="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600" spc="-1" strike="noStrike">
                <a:solidFill>
                  <a:srgbClr val="000000"/>
                </a:solidFill>
                <a:latin typeface="Calibri"/>
              </a:rPr>
              <a:t>SUBACUTE STAGE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ormation and education regarding the diseas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hyd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al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0360" indent="-239760">
              <a:lnSpc>
                <a:spcPct val="6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nual massag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A71324-C738-46B2-A2D3-BBBC2E93A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1"/>
          <p:cNvSpPr/>
          <p:nvPr/>
        </p:nvSpPr>
        <p:spPr>
          <a:xfrm>
            <a:off x="46836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rcRect l="0" t="8220" r="0" b="13858"/>
          <a:stretch/>
        </p:blipFill>
        <p:spPr>
          <a:xfrm>
            <a:off x="533520" y="3005280"/>
            <a:ext cx="2293920" cy="167616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0B7FB-F171-4B02-9E01-0310129AF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2" name="Picture 4" descr=""/>
          <p:cNvPicPr/>
          <p:nvPr/>
        </p:nvPicPr>
        <p:blipFill>
          <a:blip r:embed="rId2"/>
          <a:stretch/>
        </p:blipFill>
        <p:spPr>
          <a:xfrm>
            <a:off x="3124080" y="2819520"/>
            <a:ext cx="3048120" cy="20462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5" descr=""/>
          <p:cNvPicPr/>
          <p:nvPr/>
        </p:nvPicPr>
        <p:blipFill>
          <a:blip r:embed="rId3"/>
          <a:stretch/>
        </p:blipFill>
        <p:spPr>
          <a:xfrm>
            <a:off x="6477120" y="2976480"/>
            <a:ext cx="2305080" cy="173376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6"/>
          <p:cNvSpPr/>
          <p:nvPr/>
        </p:nvSpPr>
        <p:spPr>
          <a:xfrm>
            <a:off x="4648320" y="3357720"/>
            <a:ext cx="137880" cy="312480"/>
          </a:xfrm>
          <a:prstGeom prst="rect">
            <a:avLst/>
          </a:prstGeom>
          <a:solidFill>
            <a:srgbClr val="4f81bd"/>
          </a:solidFill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1"/>
          <p:cNvSpPr/>
          <p:nvPr/>
        </p:nvSpPr>
        <p:spPr>
          <a:xfrm>
            <a:off x="473040" y="503280"/>
            <a:ext cx="75438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Hydrokinesitherapy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2" descr=""/>
          <p:cNvPicPr/>
          <p:nvPr/>
        </p:nvPicPr>
        <p:blipFill>
          <a:blip r:embed="rId1"/>
          <a:stretch/>
        </p:blipFill>
        <p:spPr>
          <a:xfrm>
            <a:off x="468360" y="1546200"/>
            <a:ext cx="3382920" cy="2387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468360" y="4076640"/>
            <a:ext cx="3382920" cy="2576520"/>
          </a:xfrm>
          <a:prstGeom prst="rect">
            <a:avLst/>
          </a:prstGeom>
          <a:ln w="0">
            <a:noFill/>
          </a:ln>
        </p:spPr>
      </p:pic>
      <p:sp>
        <p:nvSpPr>
          <p:cNvPr id="448" name="Text Box 4"/>
          <p:cNvSpPr/>
          <p:nvPr/>
        </p:nvSpPr>
        <p:spPr>
          <a:xfrm>
            <a:off x="4067280" y="1557360"/>
            <a:ext cx="485928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2880" indent="-26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Calibri"/>
              </a:rPr>
              <a:t>Advantages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According to Archimedes' law, water reduces the body's weigh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Water temperature decreases the muscle spasm and improves circul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63520">
              <a:lnSpc>
                <a:spcPct val="90000"/>
              </a:lnSpc>
              <a:spcBef>
                <a:spcPts val="601"/>
              </a:spcBef>
              <a:buClr>
                <a:srgbClr val="9bbb59"/>
              </a:buClr>
              <a:buFont typeface="Wingdings 2" charset="2"/>
              <a:buChar char=""/>
              <a:tabLst>
                <a:tab algn="l" pos="272880"/>
                <a:tab algn="l" pos="730080"/>
                <a:tab algn="l" pos="1187280"/>
                <a:tab algn="l" pos="1644480"/>
                <a:tab algn="l" pos="2101680"/>
                <a:tab algn="l" pos="2558880"/>
                <a:tab algn="l" pos="3016080"/>
                <a:tab algn="l" pos="3473280"/>
                <a:tab algn="l" pos="3930480"/>
                <a:tab algn="l" pos="4387680"/>
                <a:tab algn="l" pos="4844880"/>
                <a:tab algn="l" pos="5302080"/>
                <a:tab algn="l" pos="5759280"/>
                <a:tab algn="l" pos="6216480"/>
                <a:tab algn="l" pos="6673680"/>
                <a:tab algn="l" pos="7130880"/>
                <a:tab algn="l" pos="7588080"/>
                <a:tab algn="l" pos="8045280"/>
                <a:tab algn="l" pos="8502480"/>
                <a:tab algn="l" pos="8959680"/>
                <a:tab algn="l" pos="941688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In muscle weakness, improved efficacy in performance of movements has a positive psychological effec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C8AD48-FB56-4D3B-AE71-D28BAA712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1"/>
          <p:cNvSpPr/>
          <p:nvPr/>
        </p:nvSpPr>
        <p:spPr>
          <a:xfrm>
            <a:off x="468360" y="617400"/>
            <a:ext cx="8229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Medical rehabilitation 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Text Box 2"/>
          <p:cNvSpPr/>
          <p:nvPr/>
        </p:nvSpPr>
        <p:spPr>
          <a:xfrm>
            <a:off x="457200" y="1484280"/>
            <a:ext cx="836280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3520" indent="-263520">
              <a:lnSpc>
                <a:spcPct val="100000"/>
              </a:lnSpc>
              <a:spcBef>
                <a:spcPts val="700"/>
              </a:spcBef>
              <a:buClr>
                <a:srgbClr val="9bbb59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CHRONIC STAG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erapy in this stage is directed at </a:t>
            </a: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maintenance</a:t>
            </a: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 of the  achieved state, or use of selected procedures on the basis of the functional stat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1" lang="sr-Latn-BA" sz="2800" spc="-1" strike="noStrike">
                <a:solidFill>
                  <a:srgbClr val="ff0000"/>
                </a:solidFill>
                <a:latin typeface="Calibri"/>
              </a:rPr>
              <a:t>Ergonomic counselling and training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63520" indent="-2635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263520"/>
                <a:tab algn="l" pos="720720"/>
                <a:tab algn="l" pos="1177920"/>
                <a:tab algn="l" pos="1635120"/>
                <a:tab algn="l" pos="2092320"/>
                <a:tab algn="l" pos="2549520"/>
                <a:tab algn="l" pos="3006720"/>
                <a:tab algn="l" pos="3463920"/>
                <a:tab algn="l" pos="3921120"/>
                <a:tab algn="l" pos="4378320"/>
                <a:tab algn="l" pos="4835520"/>
                <a:tab algn="l" pos="5292720"/>
                <a:tab algn="l" pos="5749920"/>
                <a:tab algn="l" pos="6207120"/>
                <a:tab algn="l" pos="6664320"/>
                <a:tab algn="l" pos="7121520"/>
                <a:tab algn="l" pos="7578720"/>
                <a:tab algn="l" pos="8035920"/>
                <a:tab algn="l" pos="8493120"/>
                <a:tab algn="l" pos="8950320"/>
                <a:tab algn="l" pos="9407520"/>
                <a:tab algn="l" pos="9601200"/>
                <a:tab algn="l" pos="10058400"/>
                <a:tab algn="l" pos="105156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Calibri"/>
              </a:rPr>
              <a:t>Through ergonomic counselling, the patient is trained for performing and using the protective movements and position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2E21AD-95E7-4B29-8396-8337738A2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84360" y="21337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"/>
          <p:cNvSpPr/>
          <p:nvPr/>
        </p:nvSpPr>
        <p:spPr>
          <a:xfrm>
            <a:off x="419040" y="1890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Ergonomic counselling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509F4-60DD-4458-AFFA-71F2B91A3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3" descr=""/>
          <p:cNvPicPr/>
          <p:nvPr/>
        </p:nvPicPr>
        <p:blipFill>
          <a:blip r:embed="rId1"/>
          <a:stretch/>
        </p:blipFill>
        <p:spPr>
          <a:xfrm>
            <a:off x="1096920" y="1279440"/>
            <a:ext cx="658332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471600" y="270000"/>
            <a:ext cx="82296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400" spc="-1" strike="noStrike">
                <a:solidFill>
                  <a:srgbClr val="000000"/>
                </a:solidFill>
                <a:latin typeface="Calibri"/>
              </a:rPr>
              <a:t>Prevention of the lumbar syndrome</a:t>
            </a:r>
            <a:endParaRPr b="0" i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457200" y="1484280"/>
            <a:ext cx="843588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ssuming 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protective positions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ergotherapeutic adaptation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Muscle strengthening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– it is important to achieve balance between the strength of trunk flexors  and extensors, which means: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etween the muscles of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the anterior abdominal wall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back muscles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аs well a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Balance between the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hip flex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extensors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BF8355-39A9-4102-BB44-E3779FE15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Extra-articular rheumatism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2"/>
          <p:cNvSpPr/>
          <p:nvPr/>
        </p:nvSpPr>
        <p:spPr>
          <a:xfrm>
            <a:off x="1835280" y="1467000"/>
            <a:ext cx="5976720" cy="46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thesitis or enthesopathy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r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nosynov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nniculitis or cellu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yofibros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i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5B0281-B17F-4B45-92DC-B1A2CCFC4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1"/>
          <p:cNvSpPr/>
          <p:nvPr/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Periarthritis humeroscapularis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457200" y="2276640"/>
            <a:ext cx="82296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Basically -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welling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calcification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of the soft structures around the shoulder joint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The process is  accompanied by the following </a:t>
            </a: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symptoms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pai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limited range of motion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muscle weakness</a:t>
            </a:r>
            <a:endParaRPr b="0" i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2BB98-D117-4F32-B55D-144219551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1"/>
          <p:cNvSpPr/>
          <p:nvPr/>
        </p:nvSpPr>
        <p:spPr>
          <a:xfrm>
            <a:off x="0" y="189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ENNI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lateralis)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 JAVELIN THROWER'S and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GOLFER'S ELBOW </a:t>
            </a:r>
            <a:r>
              <a:rPr b="1" lang="sr-Latn-CS" sz="3000" spc="-1" strike="noStrike">
                <a:solidFill>
                  <a:srgbClr val="000000"/>
                </a:solidFill>
                <a:latin typeface="Calibri"/>
              </a:rPr>
              <a:t>(epicondylitis humeri medialis)</a:t>
            </a:r>
            <a:endParaRPr b="0" i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Text Box 2"/>
          <p:cNvSpPr/>
          <p:nvPr/>
        </p:nvSpPr>
        <p:spPr>
          <a:xfrm>
            <a:off x="611280" y="1600200"/>
            <a:ext cx="7993080" cy="48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TENNIS ELBOW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ain and tenderness on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era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forearm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extens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JAVELIN THROWER'S and GOLFER'S ELBOW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tenderness in the area of th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ide of the elbow joi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ttachment of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forearm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lexor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athoanatomic chang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аt the site of muscle attachments to bone:  periosteal thickening, metaplasia of the muscular attachments and fibrosis, eve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issue calcification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457200" y="367812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hysical therapy</a:t>
            </a:r>
            <a:endParaRPr b="0" i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403280" y="1589040"/>
            <a:ext cx="6923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Thermotherapy (locally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Electrotherapy – electroanalgesic procedures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V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Infrared radiation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Ultrasound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Magnet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Lasero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SHOCK WAV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(high-energy sound wave)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Microsoft YaHei"/>
              </a:rPr>
              <a:t>Kinesitherapy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33320"/>
                <a:tab algn="l" pos="1190520"/>
                <a:tab algn="l" pos="1647720"/>
                <a:tab algn="l" pos="2104920"/>
                <a:tab algn="l" pos="2562120"/>
                <a:tab algn="l" pos="3019320"/>
                <a:tab algn="l" pos="3476520"/>
                <a:tab algn="l" pos="3933720"/>
                <a:tab algn="l" pos="4390920"/>
                <a:tab algn="l" pos="4848120"/>
                <a:tab algn="l" pos="5305320"/>
                <a:tab algn="l" pos="5762520"/>
                <a:tab algn="l" pos="6219720"/>
                <a:tab algn="l" pos="6676920"/>
                <a:tab algn="l" pos="7134120"/>
                <a:tab algn="l" pos="7591320"/>
                <a:tab algn="l" pos="8048520"/>
                <a:tab algn="l" pos="8505720"/>
                <a:tab algn="l" pos="8962920"/>
                <a:tab algn="l" pos="9420120"/>
                <a:tab algn="l" pos="987732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4393F5-34AA-44F6-B786-49A44EC4773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1"/>
          <p:cNvSpPr/>
          <p:nvPr/>
        </p:nvSpPr>
        <p:spPr>
          <a:xfrm>
            <a:off x="457200" y="476280"/>
            <a:ext cx="82296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3600"/>
            </a:b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Inflammatory rheumatic diseases</a:t>
            </a:r>
            <a:br>
              <a:rPr sz="3600"/>
            </a:b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468360" y="14130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372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common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heumatoid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ondyloarthropath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Ankylosing spondyl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MorbusBechterew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Reit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syndrom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Psoriat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37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4308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05048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- Enteropathic arthritis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C21DBE-F3CF-402A-915A-CF39578800C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alibri"/>
              </a:rPr>
              <a:t>Rheumatoid arthritis</a:t>
            </a:r>
            <a:endParaRPr b="0" i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ystemic disease of the connective tissue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Of unknown etiology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With chronic and progressive course 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he mai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clinical characteristic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ymmetric destructive polyarthritis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nvolvement of other organs in a small degree,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3320" indent="-276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ts consequences include dissability, reduction of working capacity and premature death.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F73DB-C2CF-4691-9DB9-DDA8C24A1D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16:09:49Z</dcterms:created>
  <dc:creator>Vojislav Ilic</dc:creator>
  <dc:description/>
  <dc:language>en-US</dc:language>
  <cp:lastModifiedBy>Nada Miklja</cp:lastModifiedBy>
  <dcterms:modified xsi:type="dcterms:W3CDTF">2023-09-27T09:24:02Z</dcterms:modified>
  <cp:revision>612</cp:revision>
  <dc:subject/>
  <dc:title>Slide 1</dc:title>
</cp:coreProperties>
</file>